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266B-CB54-425A-A665-CD2BF2763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ADB0-806A-44C7-AD41-D56E9807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10DC-FB44-4487-842E-BB76A1FC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49234-BF7B-442F-AD3C-CB0F8EFD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EEFF3-8ED8-4CD7-87EE-86F099E9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0C553-623D-4D5F-9CDA-3A94618B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1CC83-26B1-4910-8FE8-B12B40A5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1E488-90AF-46B8-816B-E63B5296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06AFB-6605-4098-8C42-4E392AFC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31FE7-4F8D-4D55-AEDA-77B59053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D9BA7-D15C-4D83-A39B-08FF666B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963F8-0B54-48B9-9AB5-29634769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0FB24-8867-4A2A-A24A-07EFC360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F64C-4DC8-4063-ABB3-69876928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4C991-8A77-468C-ABB9-53E83899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0C99F-122E-4D4F-95A0-2F1C12DA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60656-6C04-4DFE-9C35-8936600B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13B0B-AE42-4336-BBF0-A49ABD7A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D09F3-16EC-4F77-BBF5-1B43ACD5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12CA6-DBF1-4D6F-AF4A-FC0ED6CA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19EA2-454E-4CDC-8A36-8593FABF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80981-C8EF-4544-9212-B75D3987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B604B-BD51-4FFE-87AF-4C069D64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8ECFA-ADD8-4B2F-9468-694548A9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EC4F-BF36-4ADA-8DF8-D2E1BEFF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8A9C8-2012-44E0-8287-BC3B57DA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7795F-967F-42CC-9185-64B690060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45D8F-7F89-44E4-85D2-660FE9C7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AFA0A-06F7-4767-A78B-2C1E7502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6503B-4A03-4085-8214-0B4C6107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0783F-8E92-4523-81E0-9B30CA5A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56CF0-1942-4AB9-9A96-7292A1A7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88678-5DF6-45EE-B3E9-0D87DD5E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E8C6E-54EA-428B-9477-B0995FF9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C7D43-1A4B-411E-81D0-570E259C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F283-75F7-4B4D-8C11-48B90E64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80807-D8C4-4FCA-8CAC-534C078A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70047-2231-4126-BC9C-DDE03E8E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D0396-F89D-490A-8716-45960EE1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D4B66-9D3C-4E54-8279-777F78BC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F0223-258E-45A9-B8AE-AAC37FB6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78C1A-1EBF-47EF-806D-441706FF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2FB91-9211-42B7-83A4-EDE2E732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EFE93-BD7D-42AB-B6B4-07505191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D9492-C273-4D0C-9952-389FC2A6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B8CB9-763E-49B3-8E5A-BC67D2D1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C7EF-75B0-4B85-9FF8-BEE18DDF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79C92-6E4C-425E-9A7B-A89F22FD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BD9AF-6ECA-48F7-870B-6F607979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7DF75-1AB1-466D-B276-AC096714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62E50C-3D71-4115-A7C1-8B0931CA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61063-7E3C-4312-A040-74E3B8D2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E61D-FDC5-4229-9C01-EE336602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6504-7D2C-4A3D-9BA9-24A038C1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1A82-8186-4197-993B-89417CD6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7F04-7539-406C-B6E7-91722EDC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49F1-1041-46F3-9BA8-E211873E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8332-DFC1-4665-94DB-2FA85616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FEF4-2ECA-4C30-BAF3-2F86CAAA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D43D-8757-4F57-A0EE-CB0EA1CA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F667-CB8B-4A6A-9EDF-01384F0D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8612-201A-4DA5-AD9D-407070B0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1098-9FD1-4C37-80D4-6E0AC572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BE4B8-8A1C-44A5-AA39-07AB0262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D261C-EDCB-481B-AEC5-3D0AE911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9BDB2-C506-48C4-B306-BECB8A0B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9B50B-1296-4E6B-9B31-F6B20074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1AD41-FF51-4275-A00E-6BD89672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4822-D019-4BE7-8AE3-4B4C5251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59E20-6753-40A8-94B2-0302DBE0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05958-96F4-4073-BA45-D88358C7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5E430-80A2-4B8C-95CE-D7D11C23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A09A6-A117-4919-92DD-D8AFE090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048E9-97F1-4CE3-8694-1C6D6CEA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A4634-FE7A-4658-9CD1-8D8C5D61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A4F5F-C8E7-4449-9147-3485BA35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808AA-7D7F-48AF-8088-22776344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B2635-B3CC-48E3-ABC4-85EA1EFF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E1678-A8E2-47C2-8B2B-AA7424DB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4DFF-9F8E-4EEB-909F-04930F94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29899-D437-4CDB-8E6D-D24CAF2C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C8062-2A03-46B7-8019-B15C3532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15C70-BF62-48B4-A88C-EF7733C8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7D475-5A06-4386-ABBC-118A5C99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93D84-5A4B-4DE6-ACD9-90E31143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ADEA5-61DA-4AFA-B6BF-8A10307B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470FA-2BCF-4F23-9EC0-B5A243F2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2B01C-B8C3-4275-94CF-27F0D1CA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8962D-21BE-4336-BFC7-0C2830F3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4F1BF-E360-44FD-85D4-D346135F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6529-ACB3-475F-A61F-69EFD188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C3ED3-4BAC-4060-98C2-B92F0CB9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0FBAE-E418-47AA-AE81-8AFA0F69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F6A86-9943-40B5-90FF-DE57EBB5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2EE30-03D1-44CD-BBFC-AD03241C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F9289-A01D-4919-A08A-D8BB52B5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E16D7-7AF7-4295-896F-F264AD1F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F2E2D-1300-49A3-88C3-A06B38A1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D6F38-B02B-44BB-B2F5-1A48E02D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57EEE-DA15-47AB-A10D-11AD8CFC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36B02-2D8B-4186-83F4-D586D14A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106D-AA00-4088-8DC6-1C24154C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41645-152E-4F7E-86EB-F4917996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E23CC-4C17-4726-B2D4-5C1DD5BA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11E5C-8AD8-4226-A0B3-B1F8F6D2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A21BF-9617-418B-9098-EB89EBFC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D34BD-650B-4068-90E5-6A36A09D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92D8D-A28E-4A0D-8E42-AEB23B92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C17B1-08B0-4301-A066-51EA7769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F96CB-D563-46B2-B104-4F5DA407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56ED8-E00A-4E2C-9D63-174B9665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29215-2AC8-408B-94F0-F718565E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4F5B-9112-403E-8297-57089246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6CC45-408E-4AC2-9BDC-A523D674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D8A3A-3516-40FE-9885-B1F2AA57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B98B4-2159-4CBE-93CE-1FE6B057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709D3-A448-46EE-9085-3FD58EDC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C698A-CEF0-49E5-B053-13A8E050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40222-C087-4F1D-9B5B-6161640C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8D374-ACAC-4F6C-95CD-FA71166A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1E4B6-42E9-4CF7-B99F-E871A6C8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B6529-D63B-49C4-8687-F109ABC2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1B8C5-1345-4AAE-B474-748F3079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CEBF-C095-4A26-BAD4-C314B683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0476D-3C66-4BC0-A654-725B0C1A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59B2B-8373-4641-B1ED-AD2A728C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598D2-90AF-410D-817C-09E5D7BF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7D477-F4BD-4293-8FCA-1C35785B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9645C-5060-4F24-8CCD-E845AF75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F6036-18AD-438C-8864-5169D440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20D46-290C-4D6C-8BA0-423586E0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54C8E-62AA-43EF-A294-97B18743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A2241-5177-4236-86A4-8EDFB484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C3310-17EE-498A-9CE7-A29981DD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9CA5-C950-491E-AB8B-8F23B96A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6F049-D4C7-4074-B2EA-92870126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EA910-6548-489E-886D-9A32CCD4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5A9D4-945F-4428-BC77-774C2BBC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13125-C595-4907-9865-0BDE479C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F5EA3-19DE-497E-8A97-EF062223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09176-7167-4EC4-8362-57D84FE9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B2D99-0101-4F4F-B6A7-4B5BC7EE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F757F-54FB-4660-8892-4046CF13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ED464-53A7-4F9C-9C1C-CA8BAC61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CAD7F-FC14-47CE-B232-6267812D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0F1D-6103-4E49-B5F6-BFE31055DF6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48D9-310F-455E-8F75-B5B9D94A292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E1AB-B265-43BF-BFF2-ACEE7B1959C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FE7F-C317-47FE-8AAF-9EEA88AB2E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73EF-28FB-4C9F-9ADD-6A135EF2C1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833B-9D2D-45F7-B8A4-CC333FF54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3B18-3820-4C3B-87F2-83A59932B79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506F-30CA-4587-9A42-DD1C8685B8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07AF-062B-4925-AEAC-B75368E306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CA1C-216A-4EC9-8425-66210606F5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1DC4-AB9B-4E82-9F6C-C5251953C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2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F9A6-A0A4-43AC-940D-245815E3F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embers.aol.com/Attic21/CreatureofDay/CreatPics/whip.gif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6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eproduction: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Continuit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3124080" y="2286000"/>
            <a:ext cx="274320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5"/>
          <p:cNvSpPr/>
          <p:nvPr/>
        </p:nvSpPr>
        <p:spPr>
          <a:xfrm>
            <a:off x="1905120" y="3276720"/>
            <a:ext cx="2057400" cy="114300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6"/>
          <p:cNvSpPr/>
          <p:nvPr/>
        </p:nvSpPr>
        <p:spPr>
          <a:xfrm>
            <a:off x="5105520" y="3352680"/>
            <a:ext cx="1981080" cy="106704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7"/>
          <p:cNvSpPr/>
          <p:nvPr/>
        </p:nvSpPr>
        <p:spPr>
          <a:xfrm flipH="1">
            <a:off x="3733560" y="28954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4419720" y="28954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exual Reproduction: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Genetically Identical Offspring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cap="rnd" w="3240">
            <a:solidFill>
              <a:srgbClr val="ffff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then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               …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oning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10"/>
          <p:cNvGrpSpPr/>
          <p:nvPr/>
        </p:nvGrpSpPr>
        <p:grpSpPr>
          <a:xfrm>
            <a:off x="5866920" y="2362320"/>
            <a:ext cx="533880" cy="1143000"/>
            <a:chOff x="5866920" y="2362320"/>
            <a:chExt cx="533880" cy="1143000"/>
          </a:xfrm>
        </p:grpSpPr>
        <p:sp>
          <p:nvSpPr>
            <p:cNvPr id="525" name="Oval 4"/>
            <p:cNvSpPr/>
            <p:nvPr/>
          </p:nvSpPr>
          <p:spPr>
            <a:xfrm>
              <a:off x="5943600" y="23623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5"/>
            <p:cNvSpPr/>
            <p:nvPr/>
          </p:nvSpPr>
          <p:spPr>
            <a:xfrm>
              <a:off x="6172200" y="25909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6"/>
            <p:cNvSpPr/>
            <p:nvPr/>
          </p:nvSpPr>
          <p:spPr>
            <a:xfrm flipH="1" flipV="1">
              <a:off x="5866920" y="26668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7"/>
            <p:cNvSpPr/>
            <p:nvPr/>
          </p:nvSpPr>
          <p:spPr>
            <a:xfrm flipH="1">
              <a:off x="594324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8"/>
            <p:cNvSpPr/>
            <p:nvPr/>
          </p:nvSpPr>
          <p:spPr>
            <a:xfrm>
              <a:off x="617220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9"/>
            <p:cNvSpPr/>
            <p:nvPr/>
          </p:nvSpPr>
          <p:spPr>
            <a:xfrm flipV="1">
              <a:off x="6172200" y="26668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1"/>
          <p:cNvGrpSpPr/>
          <p:nvPr/>
        </p:nvGrpSpPr>
        <p:grpSpPr>
          <a:xfrm>
            <a:off x="4723920" y="1905120"/>
            <a:ext cx="533880" cy="1143000"/>
            <a:chOff x="4723920" y="1905120"/>
            <a:chExt cx="533880" cy="1143000"/>
          </a:xfrm>
        </p:grpSpPr>
        <p:sp>
          <p:nvSpPr>
            <p:cNvPr id="532" name="Oval 12"/>
            <p:cNvSpPr/>
            <p:nvPr/>
          </p:nvSpPr>
          <p:spPr>
            <a:xfrm>
              <a:off x="4800600" y="19051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3"/>
            <p:cNvSpPr/>
            <p:nvPr/>
          </p:nvSpPr>
          <p:spPr>
            <a:xfrm>
              <a:off x="5029200" y="21337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4"/>
            <p:cNvSpPr/>
            <p:nvPr/>
          </p:nvSpPr>
          <p:spPr>
            <a:xfrm flipH="1" flipV="1">
              <a:off x="4723920" y="22096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15"/>
            <p:cNvSpPr/>
            <p:nvPr/>
          </p:nvSpPr>
          <p:spPr>
            <a:xfrm flipH="1">
              <a:off x="480024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6"/>
            <p:cNvSpPr/>
            <p:nvPr/>
          </p:nvSpPr>
          <p:spPr>
            <a:xfrm>
              <a:off x="502920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7"/>
            <p:cNvSpPr/>
            <p:nvPr/>
          </p:nvSpPr>
          <p:spPr>
            <a:xfrm flipV="1">
              <a:off x="5029200" y="22096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8"/>
          <p:cNvGrpSpPr/>
          <p:nvPr/>
        </p:nvGrpSpPr>
        <p:grpSpPr>
          <a:xfrm>
            <a:off x="7620120" y="2057400"/>
            <a:ext cx="532800" cy="1143000"/>
            <a:chOff x="7620120" y="2057400"/>
            <a:chExt cx="532800" cy="1143000"/>
          </a:xfrm>
        </p:grpSpPr>
        <p:sp>
          <p:nvSpPr>
            <p:cNvPr id="539" name="Oval 19"/>
            <p:cNvSpPr/>
            <p:nvPr/>
          </p:nvSpPr>
          <p:spPr>
            <a:xfrm>
              <a:off x="7696080" y="20574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0"/>
            <p:cNvSpPr/>
            <p:nvPr/>
          </p:nvSpPr>
          <p:spPr>
            <a:xfrm>
              <a:off x="7924680" y="22860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1"/>
            <p:cNvSpPr/>
            <p:nvPr/>
          </p:nvSpPr>
          <p:spPr>
            <a:xfrm flipH="1" flipV="1">
              <a:off x="7620120" y="23619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22"/>
            <p:cNvSpPr/>
            <p:nvPr/>
          </p:nvSpPr>
          <p:spPr>
            <a:xfrm flipH="1">
              <a:off x="76960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3"/>
            <p:cNvSpPr/>
            <p:nvPr/>
          </p:nvSpPr>
          <p:spPr>
            <a:xfrm>
              <a:off x="79246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4"/>
            <p:cNvSpPr/>
            <p:nvPr/>
          </p:nvSpPr>
          <p:spPr>
            <a:xfrm flipV="1">
              <a:off x="7924680" y="23619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25"/>
          <p:cNvGrpSpPr/>
          <p:nvPr/>
        </p:nvGrpSpPr>
        <p:grpSpPr>
          <a:xfrm>
            <a:off x="5714640" y="3809880"/>
            <a:ext cx="533880" cy="1143000"/>
            <a:chOff x="5714640" y="3809880"/>
            <a:chExt cx="533880" cy="1143000"/>
          </a:xfrm>
        </p:grpSpPr>
        <p:sp>
          <p:nvSpPr>
            <p:cNvPr id="546" name="Oval 26"/>
            <p:cNvSpPr/>
            <p:nvPr/>
          </p:nvSpPr>
          <p:spPr>
            <a:xfrm>
              <a:off x="57913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7"/>
            <p:cNvSpPr/>
            <p:nvPr/>
          </p:nvSpPr>
          <p:spPr>
            <a:xfrm>
              <a:off x="60199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8"/>
            <p:cNvSpPr/>
            <p:nvPr/>
          </p:nvSpPr>
          <p:spPr>
            <a:xfrm flipH="1" flipV="1">
              <a:off x="57146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9"/>
            <p:cNvSpPr/>
            <p:nvPr/>
          </p:nvSpPr>
          <p:spPr>
            <a:xfrm flipH="1">
              <a:off x="57909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30"/>
            <p:cNvSpPr/>
            <p:nvPr/>
          </p:nvSpPr>
          <p:spPr>
            <a:xfrm>
              <a:off x="60199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31"/>
            <p:cNvSpPr/>
            <p:nvPr/>
          </p:nvSpPr>
          <p:spPr>
            <a:xfrm flipV="1">
              <a:off x="60199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32"/>
          <p:cNvGrpSpPr/>
          <p:nvPr/>
        </p:nvGrpSpPr>
        <p:grpSpPr>
          <a:xfrm>
            <a:off x="6857640" y="5181480"/>
            <a:ext cx="533880" cy="1143000"/>
            <a:chOff x="6857640" y="5181480"/>
            <a:chExt cx="533880" cy="1143000"/>
          </a:xfrm>
        </p:grpSpPr>
        <p:sp>
          <p:nvSpPr>
            <p:cNvPr id="553" name="Oval 33"/>
            <p:cNvSpPr/>
            <p:nvPr/>
          </p:nvSpPr>
          <p:spPr>
            <a:xfrm>
              <a:off x="6934320" y="5181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34"/>
            <p:cNvSpPr/>
            <p:nvPr/>
          </p:nvSpPr>
          <p:spPr>
            <a:xfrm>
              <a:off x="7162920" y="5410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35"/>
            <p:cNvSpPr/>
            <p:nvPr/>
          </p:nvSpPr>
          <p:spPr>
            <a:xfrm flipH="1" flipV="1">
              <a:off x="6857640" y="5486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36"/>
            <p:cNvSpPr/>
            <p:nvPr/>
          </p:nvSpPr>
          <p:spPr>
            <a:xfrm flipH="1">
              <a:off x="693396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37"/>
            <p:cNvSpPr/>
            <p:nvPr/>
          </p:nvSpPr>
          <p:spPr>
            <a:xfrm>
              <a:off x="716292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8"/>
            <p:cNvSpPr/>
            <p:nvPr/>
          </p:nvSpPr>
          <p:spPr>
            <a:xfrm flipV="1">
              <a:off x="7162920" y="5486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39"/>
          <p:cNvGrpSpPr/>
          <p:nvPr/>
        </p:nvGrpSpPr>
        <p:grpSpPr>
          <a:xfrm>
            <a:off x="7772040" y="609480"/>
            <a:ext cx="533880" cy="1143000"/>
            <a:chOff x="7772040" y="609480"/>
            <a:chExt cx="533880" cy="1143000"/>
          </a:xfrm>
        </p:grpSpPr>
        <p:sp>
          <p:nvSpPr>
            <p:cNvPr id="560" name="Oval 40"/>
            <p:cNvSpPr/>
            <p:nvPr/>
          </p:nvSpPr>
          <p:spPr>
            <a:xfrm>
              <a:off x="7848720" y="609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41"/>
            <p:cNvSpPr/>
            <p:nvPr/>
          </p:nvSpPr>
          <p:spPr>
            <a:xfrm>
              <a:off x="8077320" y="838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42"/>
            <p:cNvSpPr/>
            <p:nvPr/>
          </p:nvSpPr>
          <p:spPr>
            <a:xfrm flipH="1" flipV="1">
              <a:off x="7772040" y="914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3"/>
            <p:cNvSpPr/>
            <p:nvPr/>
          </p:nvSpPr>
          <p:spPr>
            <a:xfrm flipH="1">
              <a:off x="784836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44"/>
            <p:cNvSpPr/>
            <p:nvPr/>
          </p:nvSpPr>
          <p:spPr>
            <a:xfrm>
              <a:off x="807732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45"/>
            <p:cNvSpPr/>
            <p:nvPr/>
          </p:nvSpPr>
          <p:spPr>
            <a:xfrm flipV="1">
              <a:off x="8077320" y="914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46"/>
          <p:cNvGrpSpPr/>
          <p:nvPr/>
        </p:nvGrpSpPr>
        <p:grpSpPr>
          <a:xfrm>
            <a:off x="8305920" y="3429000"/>
            <a:ext cx="532800" cy="1143000"/>
            <a:chOff x="8305920" y="3429000"/>
            <a:chExt cx="532800" cy="1143000"/>
          </a:xfrm>
        </p:grpSpPr>
        <p:sp>
          <p:nvSpPr>
            <p:cNvPr id="567" name="Oval 47"/>
            <p:cNvSpPr/>
            <p:nvPr/>
          </p:nvSpPr>
          <p:spPr>
            <a:xfrm>
              <a:off x="8381880" y="34290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48"/>
            <p:cNvSpPr/>
            <p:nvPr/>
          </p:nvSpPr>
          <p:spPr>
            <a:xfrm>
              <a:off x="8610480" y="36576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49"/>
            <p:cNvSpPr/>
            <p:nvPr/>
          </p:nvSpPr>
          <p:spPr>
            <a:xfrm flipH="1" flipV="1">
              <a:off x="8305920" y="37335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50"/>
            <p:cNvSpPr/>
            <p:nvPr/>
          </p:nvSpPr>
          <p:spPr>
            <a:xfrm flipH="1">
              <a:off x="83818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51"/>
            <p:cNvSpPr/>
            <p:nvPr/>
          </p:nvSpPr>
          <p:spPr>
            <a:xfrm>
              <a:off x="86104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52"/>
            <p:cNvSpPr/>
            <p:nvPr/>
          </p:nvSpPr>
          <p:spPr>
            <a:xfrm flipV="1">
              <a:off x="8610480" y="37335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53"/>
          <p:cNvGrpSpPr/>
          <p:nvPr/>
        </p:nvGrpSpPr>
        <p:grpSpPr>
          <a:xfrm>
            <a:off x="8229240" y="5410080"/>
            <a:ext cx="533880" cy="1143000"/>
            <a:chOff x="8229240" y="5410080"/>
            <a:chExt cx="533880" cy="1143000"/>
          </a:xfrm>
        </p:grpSpPr>
        <p:sp>
          <p:nvSpPr>
            <p:cNvPr id="574" name="Oval 54"/>
            <p:cNvSpPr/>
            <p:nvPr/>
          </p:nvSpPr>
          <p:spPr>
            <a:xfrm>
              <a:off x="8305920" y="54100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55"/>
            <p:cNvSpPr/>
            <p:nvPr/>
          </p:nvSpPr>
          <p:spPr>
            <a:xfrm>
              <a:off x="8534520" y="56386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56"/>
            <p:cNvSpPr/>
            <p:nvPr/>
          </p:nvSpPr>
          <p:spPr>
            <a:xfrm flipH="1" flipV="1">
              <a:off x="8229240" y="57146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7"/>
            <p:cNvSpPr/>
            <p:nvPr/>
          </p:nvSpPr>
          <p:spPr>
            <a:xfrm flipH="1">
              <a:off x="830556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853452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V="1">
              <a:off x="8534520" y="57146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4343040" y="3809880"/>
            <a:ext cx="533880" cy="1143000"/>
            <a:chOff x="4343040" y="3809880"/>
            <a:chExt cx="533880" cy="1143000"/>
          </a:xfrm>
        </p:grpSpPr>
        <p:sp>
          <p:nvSpPr>
            <p:cNvPr id="581" name="Oval 61"/>
            <p:cNvSpPr/>
            <p:nvPr/>
          </p:nvSpPr>
          <p:spPr>
            <a:xfrm>
              <a:off x="44197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46483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 flipV="1">
              <a:off x="43430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64"/>
            <p:cNvSpPr/>
            <p:nvPr/>
          </p:nvSpPr>
          <p:spPr>
            <a:xfrm flipH="1">
              <a:off x="44193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65"/>
            <p:cNvSpPr/>
            <p:nvPr/>
          </p:nvSpPr>
          <p:spPr>
            <a:xfrm>
              <a:off x="46483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66"/>
            <p:cNvSpPr/>
            <p:nvPr/>
          </p:nvSpPr>
          <p:spPr>
            <a:xfrm flipV="1">
              <a:off x="46483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67"/>
          <p:cNvGrpSpPr/>
          <p:nvPr/>
        </p:nvGrpSpPr>
        <p:grpSpPr>
          <a:xfrm>
            <a:off x="3123720" y="5029200"/>
            <a:ext cx="533880" cy="1143000"/>
            <a:chOff x="3123720" y="5029200"/>
            <a:chExt cx="533880" cy="1143000"/>
          </a:xfrm>
        </p:grpSpPr>
        <p:sp>
          <p:nvSpPr>
            <p:cNvPr id="588" name="Oval 68"/>
            <p:cNvSpPr/>
            <p:nvPr/>
          </p:nvSpPr>
          <p:spPr>
            <a:xfrm>
              <a:off x="3200400" y="502920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69"/>
            <p:cNvSpPr/>
            <p:nvPr/>
          </p:nvSpPr>
          <p:spPr>
            <a:xfrm>
              <a:off x="342900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70"/>
            <p:cNvSpPr/>
            <p:nvPr/>
          </p:nvSpPr>
          <p:spPr>
            <a:xfrm flipH="1" flipV="1">
              <a:off x="3123720" y="533376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71"/>
            <p:cNvSpPr/>
            <p:nvPr/>
          </p:nvSpPr>
          <p:spPr>
            <a:xfrm flipH="1">
              <a:off x="320004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72"/>
            <p:cNvSpPr/>
            <p:nvPr/>
          </p:nvSpPr>
          <p:spPr>
            <a:xfrm>
              <a:off x="342900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73"/>
            <p:cNvSpPr/>
            <p:nvPr/>
          </p:nvSpPr>
          <p:spPr>
            <a:xfrm flipV="1">
              <a:off x="3429000" y="533376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74"/>
          <p:cNvGrpSpPr/>
          <p:nvPr/>
        </p:nvGrpSpPr>
        <p:grpSpPr>
          <a:xfrm>
            <a:off x="3733920" y="1828800"/>
            <a:ext cx="532800" cy="1143000"/>
            <a:chOff x="3733920" y="1828800"/>
            <a:chExt cx="532800" cy="1143000"/>
          </a:xfrm>
        </p:grpSpPr>
        <p:sp>
          <p:nvSpPr>
            <p:cNvPr id="595" name="Oval 75"/>
            <p:cNvSpPr/>
            <p:nvPr/>
          </p:nvSpPr>
          <p:spPr>
            <a:xfrm>
              <a:off x="3809880" y="18288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76"/>
            <p:cNvSpPr/>
            <p:nvPr/>
          </p:nvSpPr>
          <p:spPr>
            <a:xfrm>
              <a:off x="4038480" y="20574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77"/>
            <p:cNvSpPr/>
            <p:nvPr/>
          </p:nvSpPr>
          <p:spPr>
            <a:xfrm flipH="1" flipV="1">
              <a:off x="3733920" y="21333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78"/>
            <p:cNvSpPr/>
            <p:nvPr/>
          </p:nvSpPr>
          <p:spPr>
            <a:xfrm flipH="1">
              <a:off x="38098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79"/>
            <p:cNvSpPr/>
            <p:nvPr/>
          </p:nvSpPr>
          <p:spPr>
            <a:xfrm>
              <a:off x="40384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80"/>
            <p:cNvSpPr/>
            <p:nvPr/>
          </p:nvSpPr>
          <p:spPr>
            <a:xfrm flipV="1">
              <a:off x="4038480" y="21333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81"/>
          <p:cNvGrpSpPr/>
          <p:nvPr/>
        </p:nvGrpSpPr>
        <p:grpSpPr>
          <a:xfrm>
            <a:off x="6705720" y="2514600"/>
            <a:ext cx="532800" cy="1143000"/>
            <a:chOff x="6705720" y="2514600"/>
            <a:chExt cx="532800" cy="1143000"/>
          </a:xfrm>
        </p:grpSpPr>
        <p:sp>
          <p:nvSpPr>
            <p:cNvPr id="602" name="Oval 82"/>
            <p:cNvSpPr/>
            <p:nvPr/>
          </p:nvSpPr>
          <p:spPr>
            <a:xfrm>
              <a:off x="6781680" y="25146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83"/>
            <p:cNvSpPr/>
            <p:nvPr/>
          </p:nvSpPr>
          <p:spPr>
            <a:xfrm>
              <a:off x="7010280" y="27432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84"/>
            <p:cNvSpPr/>
            <p:nvPr/>
          </p:nvSpPr>
          <p:spPr>
            <a:xfrm flipH="1" flipV="1">
              <a:off x="6705720" y="28191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85"/>
            <p:cNvSpPr/>
            <p:nvPr/>
          </p:nvSpPr>
          <p:spPr>
            <a:xfrm flipH="1">
              <a:off x="67816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86"/>
            <p:cNvSpPr/>
            <p:nvPr/>
          </p:nvSpPr>
          <p:spPr>
            <a:xfrm>
              <a:off x="70102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87"/>
            <p:cNvSpPr/>
            <p:nvPr/>
          </p:nvSpPr>
          <p:spPr>
            <a:xfrm flipV="1">
              <a:off x="7010280" y="28191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88"/>
          <p:cNvGrpSpPr/>
          <p:nvPr/>
        </p:nvGrpSpPr>
        <p:grpSpPr>
          <a:xfrm>
            <a:off x="7009920" y="1066680"/>
            <a:ext cx="533880" cy="1143000"/>
            <a:chOff x="7009920" y="1066680"/>
            <a:chExt cx="533880" cy="1143000"/>
          </a:xfrm>
        </p:grpSpPr>
        <p:sp>
          <p:nvSpPr>
            <p:cNvPr id="609" name="Oval 89"/>
            <p:cNvSpPr/>
            <p:nvPr/>
          </p:nvSpPr>
          <p:spPr>
            <a:xfrm>
              <a:off x="7086600" y="10666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90"/>
            <p:cNvSpPr/>
            <p:nvPr/>
          </p:nvSpPr>
          <p:spPr>
            <a:xfrm>
              <a:off x="7315200" y="12952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91"/>
            <p:cNvSpPr/>
            <p:nvPr/>
          </p:nvSpPr>
          <p:spPr>
            <a:xfrm flipH="1" flipV="1">
              <a:off x="7009920" y="13712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92"/>
            <p:cNvSpPr/>
            <p:nvPr/>
          </p:nvSpPr>
          <p:spPr>
            <a:xfrm flipH="1">
              <a:off x="708624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93"/>
            <p:cNvSpPr/>
            <p:nvPr/>
          </p:nvSpPr>
          <p:spPr>
            <a:xfrm>
              <a:off x="731520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94"/>
            <p:cNvSpPr/>
            <p:nvPr/>
          </p:nvSpPr>
          <p:spPr>
            <a:xfrm flipV="1">
              <a:off x="7315200" y="13712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102"/>
          <p:cNvGrpSpPr/>
          <p:nvPr/>
        </p:nvGrpSpPr>
        <p:grpSpPr>
          <a:xfrm>
            <a:off x="7391520" y="3962520"/>
            <a:ext cx="532800" cy="1143000"/>
            <a:chOff x="7391520" y="3962520"/>
            <a:chExt cx="532800" cy="1143000"/>
          </a:xfrm>
        </p:grpSpPr>
        <p:sp>
          <p:nvSpPr>
            <p:cNvPr id="616" name="Oval 103"/>
            <p:cNvSpPr/>
            <p:nvPr/>
          </p:nvSpPr>
          <p:spPr>
            <a:xfrm>
              <a:off x="7467480" y="39625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04"/>
            <p:cNvSpPr/>
            <p:nvPr/>
          </p:nvSpPr>
          <p:spPr>
            <a:xfrm>
              <a:off x="7696080" y="41911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05"/>
            <p:cNvSpPr/>
            <p:nvPr/>
          </p:nvSpPr>
          <p:spPr>
            <a:xfrm flipH="1" flipV="1">
              <a:off x="7391520" y="42670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06"/>
            <p:cNvSpPr/>
            <p:nvPr/>
          </p:nvSpPr>
          <p:spPr>
            <a:xfrm flipH="1">
              <a:off x="74674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07"/>
            <p:cNvSpPr/>
            <p:nvPr/>
          </p:nvSpPr>
          <p:spPr>
            <a:xfrm>
              <a:off x="76960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08"/>
            <p:cNvSpPr/>
            <p:nvPr/>
          </p:nvSpPr>
          <p:spPr>
            <a:xfrm flipV="1">
              <a:off x="7696080" y="42670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109"/>
          <p:cNvGrpSpPr/>
          <p:nvPr/>
        </p:nvGrpSpPr>
        <p:grpSpPr>
          <a:xfrm>
            <a:off x="6477120" y="3733920"/>
            <a:ext cx="532800" cy="1143000"/>
            <a:chOff x="6477120" y="3733920"/>
            <a:chExt cx="532800" cy="1143000"/>
          </a:xfrm>
        </p:grpSpPr>
        <p:sp>
          <p:nvSpPr>
            <p:cNvPr id="623" name="Oval 110"/>
            <p:cNvSpPr/>
            <p:nvPr/>
          </p:nvSpPr>
          <p:spPr>
            <a:xfrm>
              <a:off x="6553080" y="37339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111"/>
            <p:cNvSpPr/>
            <p:nvPr/>
          </p:nvSpPr>
          <p:spPr>
            <a:xfrm>
              <a:off x="6781680" y="39625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12"/>
            <p:cNvSpPr/>
            <p:nvPr/>
          </p:nvSpPr>
          <p:spPr>
            <a:xfrm flipH="1" flipV="1">
              <a:off x="6477120" y="40384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13"/>
            <p:cNvSpPr/>
            <p:nvPr/>
          </p:nvSpPr>
          <p:spPr>
            <a:xfrm flipH="1">
              <a:off x="65530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14"/>
            <p:cNvSpPr/>
            <p:nvPr/>
          </p:nvSpPr>
          <p:spPr>
            <a:xfrm>
              <a:off x="67816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15"/>
            <p:cNvSpPr/>
            <p:nvPr/>
          </p:nvSpPr>
          <p:spPr>
            <a:xfrm flipV="1">
              <a:off x="6781680" y="40384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130"/>
          <p:cNvGrpSpPr/>
          <p:nvPr/>
        </p:nvGrpSpPr>
        <p:grpSpPr>
          <a:xfrm>
            <a:off x="228240" y="1143000"/>
            <a:ext cx="609480" cy="2895480"/>
            <a:chOff x="228240" y="1143000"/>
            <a:chExt cx="609480" cy="2895480"/>
          </a:xfrm>
        </p:grpSpPr>
        <p:grpSp>
          <p:nvGrpSpPr>
            <p:cNvPr id="630" name="Group 95"/>
            <p:cNvGrpSpPr/>
            <p:nvPr/>
          </p:nvGrpSpPr>
          <p:grpSpPr>
            <a:xfrm>
              <a:off x="228240" y="2895480"/>
              <a:ext cx="533880" cy="1143000"/>
              <a:chOff x="228240" y="2895480"/>
              <a:chExt cx="533880" cy="1143000"/>
            </a:xfrm>
          </p:grpSpPr>
          <p:sp>
            <p:nvSpPr>
              <p:cNvPr id="631" name="Oval 96"/>
              <p:cNvSpPr/>
              <p:nvPr/>
            </p:nvSpPr>
            <p:spPr>
              <a:xfrm>
                <a:off x="304920" y="2895480"/>
                <a:ext cx="38088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97"/>
              <p:cNvSpPr/>
              <p:nvPr/>
            </p:nvSpPr>
            <p:spPr>
              <a:xfrm>
                <a:off x="533520" y="312408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98"/>
              <p:cNvSpPr/>
              <p:nvPr/>
            </p:nvSpPr>
            <p:spPr>
              <a:xfrm flipH="1" flipV="1">
                <a:off x="228240" y="3200040"/>
                <a:ext cx="30492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99"/>
              <p:cNvSpPr/>
              <p:nvPr/>
            </p:nvSpPr>
            <p:spPr>
              <a:xfrm flipH="1">
                <a:off x="30456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100"/>
              <p:cNvSpPr/>
              <p:nvPr/>
            </p:nvSpPr>
            <p:spPr>
              <a:xfrm>
                <a:off x="53352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01"/>
              <p:cNvSpPr/>
              <p:nvPr/>
            </p:nvSpPr>
            <p:spPr>
              <a:xfrm flipV="1">
                <a:off x="533520" y="3200040"/>
                <a:ext cx="22860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Group 116"/>
            <p:cNvGrpSpPr/>
            <p:nvPr/>
          </p:nvGrpSpPr>
          <p:grpSpPr>
            <a:xfrm>
              <a:off x="304920" y="1143000"/>
              <a:ext cx="532800" cy="1143000"/>
              <a:chOff x="304920" y="1143000"/>
              <a:chExt cx="532800" cy="1143000"/>
            </a:xfrm>
          </p:grpSpPr>
          <p:sp>
            <p:nvSpPr>
              <p:cNvPr id="638" name="Oval 117"/>
              <p:cNvSpPr/>
              <p:nvPr/>
            </p:nvSpPr>
            <p:spPr>
              <a:xfrm>
                <a:off x="380880" y="1143000"/>
                <a:ext cx="38052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118"/>
              <p:cNvSpPr/>
              <p:nvPr/>
            </p:nvSpPr>
            <p:spPr>
              <a:xfrm>
                <a:off x="609480" y="137160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119"/>
              <p:cNvSpPr/>
              <p:nvPr/>
            </p:nvSpPr>
            <p:spPr>
              <a:xfrm flipH="1" flipV="1">
                <a:off x="304920" y="1447560"/>
                <a:ext cx="30456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120"/>
              <p:cNvSpPr/>
              <p:nvPr/>
            </p:nvSpPr>
            <p:spPr>
              <a:xfrm flipH="1">
                <a:off x="3808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21"/>
              <p:cNvSpPr/>
              <p:nvPr/>
            </p:nvSpPr>
            <p:spPr>
              <a:xfrm>
                <a:off x="6094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122"/>
              <p:cNvSpPr/>
              <p:nvPr/>
            </p:nvSpPr>
            <p:spPr>
              <a:xfrm flipV="1">
                <a:off x="609480" y="1447560"/>
                <a:ext cx="22824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4" name="Group 123"/>
          <p:cNvGrpSpPr/>
          <p:nvPr/>
        </p:nvGrpSpPr>
        <p:grpSpPr>
          <a:xfrm>
            <a:off x="990720" y="5029200"/>
            <a:ext cx="532800" cy="1143000"/>
            <a:chOff x="990720" y="5029200"/>
            <a:chExt cx="532800" cy="1143000"/>
          </a:xfrm>
        </p:grpSpPr>
        <p:sp>
          <p:nvSpPr>
            <p:cNvPr id="645" name="Oval 124"/>
            <p:cNvSpPr/>
            <p:nvPr/>
          </p:nvSpPr>
          <p:spPr>
            <a:xfrm>
              <a:off x="1066680" y="50292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25"/>
            <p:cNvSpPr/>
            <p:nvPr/>
          </p:nvSpPr>
          <p:spPr>
            <a:xfrm>
              <a:off x="129528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26"/>
            <p:cNvSpPr/>
            <p:nvPr/>
          </p:nvSpPr>
          <p:spPr>
            <a:xfrm flipH="1" flipV="1">
              <a:off x="990720" y="53337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27"/>
            <p:cNvSpPr/>
            <p:nvPr/>
          </p:nvSpPr>
          <p:spPr>
            <a:xfrm flipH="1">
              <a:off x="10666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28"/>
            <p:cNvSpPr/>
            <p:nvPr/>
          </p:nvSpPr>
          <p:spPr>
            <a:xfrm>
              <a:off x="12952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129"/>
            <p:cNvSpPr/>
            <p:nvPr/>
          </p:nvSpPr>
          <p:spPr>
            <a:xfrm flipV="1">
              <a:off x="1295280" y="53337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dding…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Organisms Arise as an Outgrowth from the Parent Org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n Mostly in Marine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Include; Sponges, Corals and Jellyfish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4" name="Picture 6" descr="bright yellow coral polyp"/>
          <p:cNvPicPr/>
          <p:nvPr/>
        </p:nvPicPr>
        <p:blipFill>
          <a:blip r:embed="rId1"/>
          <a:stretch/>
        </p:blipFill>
        <p:spPr>
          <a:xfrm>
            <a:off x="4800600" y="1981080"/>
            <a:ext cx="4114800" cy="426744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7"/>
          <p:cNvSpPr/>
          <p:nvPr/>
        </p:nvSpPr>
        <p:spPr>
          <a:xfrm>
            <a:off x="4800600" y="6248520"/>
            <a:ext cx="41148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al Polyp Photo courtesy Jeffrey N. Jeff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generation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efers to the ability of some animals to      re-grow severed p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Picture 7" descr="MPj02554950000[1]"/>
          <p:cNvPicPr/>
          <p:nvPr/>
        </p:nvPicPr>
        <p:blipFill>
          <a:blip r:embed="rId1"/>
          <a:stretch/>
        </p:blipFill>
        <p:spPr>
          <a:xfrm>
            <a:off x="4724280" y="1981080"/>
            <a:ext cx="4191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rthenogenesis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spring can arise from unfertilized eg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some Fish, Reptiles, Amphibians and Aph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se species can switch between Sexual and Asexual Reprodu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pending on condi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2" name="Picture 7" descr="whi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981080"/>
            <a:ext cx="2209680" cy="20574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9" descr="Rhampho"/>
          <p:cNvPicPr/>
          <p:nvPr/>
        </p:nvPicPr>
        <p:blipFill>
          <a:blip r:embed="rId3"/>
          <a:stretch/>
        </p:blipFill>
        <p:spPr>
          <a:xfrm>
            <a:off x="7162920" y="1905120"/>
            <a:ext cx="1676160" cy="213336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10"/>
          <p:cNvSpPr/>
          <p:nvPr/>
        </p:nvSpPr>
        <p:spPr>
          <a:xfrm>
            <a:off x="7162920" y="37260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1"/>
          <p:cNvSpPr/>
          <p:nvPr/>
        </p:nvSpPr>
        <p:spPr>
          <a:xfrm>
            <a:off x="4876920" y="35812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12" descr=""/>
          <p:cNvPicPr/>
          <p:nvPr/>
        </p:nvPicPr>
        <p:blipFill>
          <a:blip r:embed="rId4"/>
          <a:stretch/>
        </p:blipFill>
        <p:spPr>
          <a:xfrm>
            <a:off x="4876920" y="4038480"/>
            <a:ext cx="2209680" cy="21351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13"/>
          <p:cNvSpPr/>
          <p:nvPr/>
        </p:nvSpPr>
        <p:spPr>
          <a:xfrm>
            <a:off x="4876920" y="6095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15" descr="soybean_aphid_colony"/>
          <p:cNvPicPr/>
          <p:nvPr/>
        </p:nvPicPr>
        <p:blipFill>
          <a:blip r:embed="rId5"/>
          <a:stretch/>
        </p:blipFill>
        <p:spPr>
          <a:xfrm>
            <a:off x="7086600" y="4038480"/>
            <a:ext cx="1752480" cy="213372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6"/>
          <p:cNvSpPr/>
          <p:nvPr/>
        </p:nvSpPr>
        <p:spPr>
          <a:xfrm>
            <a:off x="7086600" y="60958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WHY??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Imagine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 Black"/>
              </a:rPr>
              <a:t>Death…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6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RomaK</cp:lastModifiedBy>
  <dcterms:modified xsi:type="dcterms:W3CDTF">2015-09-04T11:07:45Z</dcterms:modified>
  <cp:revision>11</cp:revision>
  <dc:subject/>
  <dc:title>Sexual Reproduction</dc:title>
</cp:coreProperties>
</file>